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127.png" ContentType="image/png"/>
  <Override PartName="/ppt/media/image1.png" ContentType="image/png"/>
  <Override PartName="/ppt/media/image153.png" ContentType="image/png"/>
  <Override PartName="/ppt/media/image39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53.png" ContentType="image/png"/>
  <Override PartName="/ppt/media/image128.png" ContentType="image/png"/>
  <Override PartName="/ppt/media/image129.png" ContentType="image/png"/>
  <Override PartName="/ppt/media/image32.png" ContentType="image/png"/>
  <Override PartName="/ppt/media/image133.png" ContentType="image/png"/>
  <Override PartName="/ppt/media/image134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160.png" ContentType="image/png"/>
  <Override PartName="/ppt/media/image161.png" ContentType="image/png"/>
  <Override PartName="/ppt/media/image162.png" ContentType="image/png"/>
  <Override PartName="/ppt/media/image40.png" ContentType="image/png"/>
  <Override PartName="/ppt/media/image137.png" ContentType="image/png"/>
  <Override PartName="/ppt/media/image163.png" ContentType="image/png"/>
  <Override PartName="/ppt/media/image152.png" ContentType="image/png"/>
  <Override PartName="/ppt/media/image41.png" ContentType="image/png"/>
  <Override PartName="/ppt/media/image138.png" ContentType="image/png"/>
  <Override PartName="/ppt/media/image164.png" ContentType="image/png"/>
  <Override PartName="/ppt/media/image42.png" ContentType="image/png"/>
  <Override PartName="/ppt/media/image139.png" ContentType="image/png"/>
  <Override PartName="/ppt/media/image165.png" ContentType="image/png"/>
  <Override PartName="/ppt/media/image45.png" ContentType="image/png"/>
  <Override PartName="/ppt/media/image131.png" ContentType="image/png"/>
  <Override PartName="/ppt/media/image168.png" ContentType="image/png"/>
  <Override PartName="/ppt/media/image46.png" ContentType="image/png"/>
  <Override PartName="/ppt/media/image132.png" ContentType="image/png"/>
  <Override PartName="/ppt/media/image169.png" ContentType="image/png"/>
  <Override PartName="/ppt/media/image43.png" ContentType="image/png"/>
  <Override PartName="/ppt/media/image166.png" ContentType="image/png"/>
  <Override PartName="/ppt/media/image143.png" ContentType="image/png"/>
  <Override PartName="/ppt/media/image44.png" ContentType="image/png"/>
  <Override PartName="/ppt/media/image130.png" ContentType="image/png"/>
  <Override PartName="/ppt/media/image167.png" ContentType="image/png"/>
  <Override PartName="/ppt/media/image144.png" ContentType="image/png"/>
  <Override PartName="/ppt/media/image151.png" ContentType="image/png"/>
  <Override PartName="/ppt/media/image150.png" ContentType="image/png"/>
  <Override PartName="/ppt/media/image146.png" ContentType="image/png"/>
  <Override PartName="/ppt/media/image145.png" ContentType="image/png"/>
  <Override PartName="/ppt/media/image56.png" ContentType="image/png"/>
  <Override PartName="/ppt/media/image179.png" ContentType="image/png"/>
  <Override PartName="/ppt/media/image85.png" ContentType="image/png"/>
  <Override PartName="/ppt/media/image17.png" ContentType="image/png"/>
  <Override PartName="/ppt/media/image142.png" ContentType="image/png"/>
  <Override PartName="/ppt/media/image55.png" ContentType="image/png"/>
  <Override PartName="/ppt/media/image178.png" ContentType="image/png"/>
  <Override PartName="/ppt/media/image13.png" ContentType="image/png"/>
  <Override PartName="/ppt/media/image81.png" ContentType="image/png"/>
  <Override PartName="/ppt/media/image141.png" ContentType="image/png"/>
  <Override PartName="/ppt/media/image54.png" ContentType="image/png"/>
  <Override PartName="/ppt/media/image140.png" ContentType="image/png"/>
  <Override PartName="/ppt/media/image136.png" ContentType="image/png"/>
  <Override PartName="/ppt/media/image17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37.png" ContentType="image/png"/>
  <Override PartName="/ppt/media/image62.png" ContentType="image/png"/>
  <Override PartName="/ppt/media/image159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176.png" ContentType="image/png"/>
  <Override PartName="/ppt/media/image82.png" ContentType="image/png"/>
  <Override PartName="/ppt/media/image14.png" ContentType="image/png"/>
  <Override PartName="/ppt/media/image36.png" ContentType="image/png"/>
  <Override PartName="/ppt/media/image61.png" ContentType="image/png"/>
  <Override PartName="/ppt/media/image158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1.png" ContentType="image/png"/>
  <Override PartName="/ppt/media/image9.png" ContentType="image/png"/>
  <Override PartName="/ppt/media/image47.png" ContentType="image/png"/>
  <Override PartName="/ppt/media/image10.png" ContentType="image/png"/>
  <Override PartName="/ppt/media/image175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57.png" ContentType="image/png"/>
  <Override PartName="/ppt/media/image60.png" ContentType="image/png"/>
  <Override PartName="/ppt/media/image34.png" ContentType="image/png"/>
  <Override PartName="/ppt/media/image4.png" ContentType="image/png"/>
  <Override PartName="/ppt/media/image156.png" ContentType="image/png"/>
  <Override PartName="/ppt/media/image33.png" ContentType="image/png"/>
  <Override PartName="/ppt/media/image3.png" ContentType="image/png"/>
  <Override PartName="/ppt/media/image155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15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C3B3-ECC6-4599-BB4D-A93C1DAC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F67-9EF6-4F7D-80AC-8D0DB46E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FE02-521E-476E-8032-5EB1630D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0122-3CFF-4E7F-B76F-F8513046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1C6-B0D1-4CC3-BEE1-9A0FEAFC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6F60-5085-48E6-AA4B-19D4B1F8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2C5-C354-4374-A393-CB8933AA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DDA-F9DE-4BCF-BC70-69740350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E4D0-5FDD-4F37-B318-65131A5A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8CC-951A-45D3-919E-A9C1F1A1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F6A-8D7D-45A8-89A9-E82D9C98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630-89AD-4BB5-BFB7-580C9320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1845-85B4-49ED-B335-5463E1AB7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7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ivision Properties of Ex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image" Target="../media/image72.png"/><Relationship Id="rId9" Type="http://schemas.openxmlformats.org/officeDocument/2006/relationships/image" Target="../media/image63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image" Target="../media/image96.png"/><Relationship Id="rId6" Type="http://schemas.openxmlformats.org/officeDocument/2006/relationships/image" Target="../media/image97.png"/><Relationship Id="rId7" Type="http://schemas.openxmlformats.org/officeDocument/2006/relationships/image" Target="../media/image98.png"/><Relationship Id="rId8" Type="http://schemas.openxmlformats.org/officeDocument/2006/relationships/image" Target="../media/image9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image" Target="../media/image104.png"/><Relationship Id="rId6" Type="http://schemas.openxmlformats.org/officeDocument/2006/relationships/image" Target="../media/image105.png"/><Relationship Id="rId7" Type="http://schemas.openxmlformats.org/officeDocument/2006/relationships/image" Target="../media/image106.png"/><Relationship Id="rId8" Type="http://schemas.openxmlformats.org/officeDocument/2006/relationships/image" Target="../media/image107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png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image" Target="../media/image116.png"/><Relationship Id="rId4" Type="http://schemas.openxmlformats.org/officeDocument/2006/relationships/image" Target="../media/image117.png"/><Relationship Id="rId5" Type="http://schemas.openxmlformats.org/officeDocument/2006/relationships/image" Target="../media/image118.png"/><Relationship Id="rId6" Type="http://schemas.openxmlformats.org/officeDocument/2006/relationships/image" Target="../media/image119.png"/><Relationship Id="rId7" Type="http://schemas.openxmlformats.org/officeDocument/2006/relationships/image" Target="../media/image120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0.png"/><Relationship Id="rId3" Type="http://schemas.openxmlformats.org/officeDocument/2006/relationships/image" Target="../media/image122.png"/><Relationship Id="rId4" Type="http://schemas.openxmlformats.org/officeDocument/2006/relationships/image" Target="../media/image123.png"/><Relationship Id="rId5" Type="http://schemas.openxmlformats.org/officeDocument/2006/relationships/image" Target="../media/image124.png"/><Relationship Id="rId6" Type="http://schemas.openxmlformats.org/officeDocument/2006/relationships/image" Target="../media/image125.png"/><Relationship Id="rId7" Type="http://schemas.openxmlformats.org/officeDocument/2006/relationships/image" Target="../media/image126.png"/><Relationship Id="rId8" Type="http://schemas.openxmlformats.org/officeDocument/2006/relationships/image" Target="../media/image127.png"/><Relationship Id="rId9" Type="http://schemas.openxmlformats.org/officeDocument/2006/relationships/image" Target="../media/image128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32.png"/><Relationship Id="rId5" Type="http://schemas.openxmlformats.org/officeDocument/2006/relationships/image" Target="../media/image133.png"/><Relationship Id="rId6" Type="http://schemas.openxmlformats.org/officeDocument/2006/relationships/image" Target="../media/image134.png"/><Relationship Id="rId7" Type="http://schemas.openxmlformats.org/officeDocument/2006/relationships/image" Target="../media/image135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7.png"/><Relationship Id="rId2" Type="http://schemas.openxmlformats.org/officeDocument/2006/relationships/image" Target="../media/image138.png"/><Relationship Id="rId3" Type="http://schemas.openxmlformats.org/officeDocument/2006/relationships/image" Target="../media/image139.png"/><Relationship Id="rId4" Type="http://schemas.openxmlformats.org/officeDocument/2006/relationships/image" Target="../media/image140.png"/><Relationship Id="rId5" Type="http://schemas.openxmlformats.org/officeDocument/2006/relationships/image" Target="../media/image14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2.png"/><Relationship Id="rId2" Type="http://schemas.openxmlformats.org/officeDocument/2006/relationships/image" Target="../media/image143.png"/><Relationship Id="rId3" Type="http://schemas.openxmlformats.org/officeDocument/2006/relationships/image" Target="../media/image144.png"/><Relationship Id="rId4" Type="http://schemas.openxmlformats.org/officeDocument/2006/relationships/image" Target="../media/image145.png"/><Relationship Id="rId5" Type="http://schemas.openxmlformats.org/officeDocument/2006/relationships/image" Target="../media/image146.png"/><Relationship Id="rId6" Type="http://schemas.openxmlformats.org/officeDocument/2006/relationships/image" Target="../media/image147.png"/><Relationship Id="rId7" Type="http://schemas.openxmlformats.org/officeDocument/2006/relationships/image" Target="../media/image148.png"/><Relationship Id="rId8" Type="http://schemas.openxmlformats.org/officeDocument/2006/relationships/image" Target="../media/image149.png"/><Relationship Id="rId9" Type="http://schemas.openxmlformats.org/officeDocument/2006/relationships/image" Target="../media/image150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1.png"/><Relationship Id="rId2" Type="http://schemas.openxmlformats.org/officeDocument/2006/relationships/image" Target="../media/image152.png"/><Relationship Id="rId3" Type="http://schemas.openxmlformats.org/officeDocument/2006/relationships/image" Target="../media/image153.png"/><Relationship Id="rId4" Type="http://schemas.openxmlformats.org/officeDocument/2006/relationships/image" Target="../media/image15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4.png"/><Relationship Id="rId2" Type="http://schemas.openxmlformats.org/officeDocument/2006/relationships/image" Target="../media/image155.png"/><Relationship Id="rId3" Type="http://schemas.openxmlformats.org/officeDocument/2006/relationships/image" Target="../media/image155.png"/><Relationship Id="rId4" Type="http://schemas.openxmlformats.org/officeDocument/2006/relationships/image" Target="../media/image156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7.png"/><Relationship Id="rId2" Type="http://schemas.openxmlformats.org/officeDocument/2006/relationships/image" Target="../media/image158.png"/><Relationship Id="rId3" Type="http://schemas.openxmlformats.org/officeDocument/2006/relationships/image" Target="../media/image159.png"/><Relationship Id="rId4" Type="http://schemas.openxmlformats.org/officeDocument/2006/relationships/image" Target="../media/image160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62.png"/><Relationship Id="rId3" Type="http://schemas.openxmlformats.org/officeDocument/2006/relationships/image" Target="../media/image163.png"/><Relationship Id="rId4" Type="http://schemas.openxmlformats.org/officeDocument/2006/relationships/image" Target="../media/image164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66.png"/><Relationship Id="rId3" Type="http://schemas.openxmlformats.org/officeDocument/2006/relationships/image" Target="../media/image167.png"/><Relationship Id="rId4" Type="http://schemas.openxmlformats.org/officeDocument/2006/relationships/image" Target="../media/image168.png"/><Relationship Id="rId5" Type="http://schemas.openxmlformats.org/officeDocument/2006/relationships/image" Target="../media/image169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0.png"/><Relationship Id="rId2" Type="http://schemas.openxmlformats.org/officeDocument/2006/relationships/image" Target="../media/image171.png"/><Relationship Id="rId3" Type="http://schemas.openxmlformats.org/officeDocument/2006/relationships/image" Target="../media/image172.png"/><Relationship Id="rId4" Type="http://schemas.openxmlformats.org/officeDocument/2006/relationships/image" Target="../media/image173.png"/><Relationship Id="rId5" Type="http://schemas.openxmlformats.org/officeDocument/2006/relationships/image" Target="../media/image174.png"/><Relationship Id="rId6" Type="http://schemas.openxmlformats.org/officeDocument/2006/relationships/image" Target="../media/image175.png"/><Relationship Id="rId7" Type="http://schemas.openxmlformats.org/officeDocument/2006/relationships/image" Target="../media/image176.png"/><Relationship Id="rId8" Type="http://schemas.openxmlformats.org/officeDocument/2006/relationships/image" Target="../media/image177.png"/><Relationship Id="rId9" Type="http://schemas.openxmlformats.org/officeDocument/2006/relationships/image" Target="../media/image178.png"/><Relationship Id="rId10" Type="http://schemas.openxmlformats.org/officeDocument/2006/relationships/image" Target="../media/image179.png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7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ivision Properties of Ex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62080" y="2133720"/>
            <a:ext cx="1200240" cy="914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76720" y="231444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61800" y="3200400"/>
            <a:ext cx="3552840" cy="914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523880" y="4210200"/>
            <a:ext cx="2143080" cy="438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523880" y="4743360"/>
            <a:ext cx="1533600" cy="438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542960" y="5172120"/>
            <a:ext cx="800280" cy="847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5524560" y="2209680"/>
            <a:ext cx="163836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4819680" y="3228840"/>
            <a:ext cx="4248000" cy="914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6405480" y="4038480"/>
            <a:ext cx="1800360" cy="438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6400800" y="4562640"/>
            <a:ext cx="1800360" cy="771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0"/>
          <a:stretch/>
        </p:blipFill>
        <p:spPr>
          <a:xfrm>
            <a:off x="6400800" y="5438880"/>
            <a:ext cx="704880" cy="733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845240" y="231444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86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Dividing Numbers in Scientific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4920" y="1371600"/>
            <a:ext cx="8237520" cy="1008360"/>
            <a:chOff x="304920" y="1371600"/>
            <a:chExt cx="8237520" cy="1008360"/>
          </a:xfrm>
        </p:grpSpPr>
        <p:sp>
          <p:nvSpPr>
            <p:cNvPr id="136" name=""/>
            <p:cNvSpPr/>
            <p:nvPr/>
          </p:nvSpPr>
          <p:spPr>
            <a:xfrm>
              <a:off x="304920" y="1371600"/>
              <a:ext cx="823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implify                                 and write the answer in scientific not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1828800" y="1447560"/>
              <a:ext cx="3257640" cy="57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450540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981080" y="3200400"/>
            <a:ext cx="150516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967040" y="4114800"/>
            <a:ext cx="2038320" cy="390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986120" y="4562640"/>
            <a:ext cx="1600200" cy="390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81440" y="31240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as a product of quo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5040" y="350532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each quo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4320" y="396252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the ex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967040" y="6024600"/>
            <a:ext cx="1295280" cy="438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1971720" y="5057640"/>
            <a:ext cx="2286000" cy="438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1971720" y="5553000"/>
            <a:ext cx="1752480" cy="43812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681440" y="4419720"/>
            <a:ext cx="4321080" cy="752040"/>
            <a:chOff x="4681440" y="4419720"/>
            <a:chExt cx="4321080" cy="752040"/>
          </a:xfrm>
        </p:grpSpPr>
        <p:sp>
          <p:nvSpPr>
            <p:cNvPr id="149" name=""/>
            <p:cNvSpPr/>
            <p:nvPr/>
          </p:nvSpPr>
          <p:spPr>
            <a:xfrm>
              <a:off x="4681440" y="4419720"/>
              <a:ext cx="4321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Write 0.5 in scientific notation as 5 x 10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9"/>
            <a:stretch/>
          </p:blipFill>
          <p:spPr>
            <a:xfrm>
              <a:off x="6433920" y="4724280"/>
              <a:ext cx="285840" cy="38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"/>
          <p:cNvSpPr/>
          <p:nvPr/>
        </p:nvSpPr>
        <p:spPr>
          <a:xfrm>
            <a:off x="4681440" y="5105520"/>
            <a:ext cx="4245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second two terms have the same base, so add th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1440" y="609588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the ex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699480" y="1506600"/>
            <a:ext cx="7758360" cy="3599640"/>
            <a:chOff x="699480" y="1506600"/>
            <a:chExt cx="7758360" cy="3599640"/>
          </a:xfrm>
        </p:grpSpPr>
        <p:sp>
          <p:nvSpPr>
            <p:cNvPr id="154" name=""/>
            <p:cNvSpPr/>
            <p:nvPr/>
          </p:nvSpPr>
          <p:spPr>
            <a:xfrm>
              <a:off x="699480" y="1909800"/>
              <a:ext cx="7758360" cy="319644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You can “split up” a quotient of products into a product of quotients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3640" y="1506600"/>
              <a:ext cx="220932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Writing Ma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2714760"/>
            <a:ext cx="1885680" cy="723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66800" y="4000680"/>
            <a:ext cx="188604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86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1371600"/>
            <a:ext cx="8237520" cy="971640"/>
            <a:chOff x="304920" y="1371600"/>
            <a:chExt cx="8237520" cy="971640"/>
          </a:xfrm>
        </p:grpSpPr>
        <p:sp>
          <p:nvSpPr>
            <p:cNvPr id="160" name=""/>
            <p:cNvSpPr/>
            <p:nvPr/>
          </p:nvSpPr>
          <p:spPr>
            <a:xfrm>
              <a:off x="304920" y="1371600"/>
              <a:ext cx="823752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implify                                  and write the answer in scientific nota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1871640" y="1400040"/>
              <a:ext cx="3333600" cy="58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4686480" cy="819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128600" y="2971800"/>
            <a:ext cx="1581120" cy="819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1147680" y="3962520"/>
            <a:ext cx="1809720" cy="380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1133640" y="4495680"/>
            <a:ext cx="1647720" cy="381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1152360" y="5029200"/>
            <a:ext cx="2476800" cy="380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1143000" y="5562720"/>
            <a:ext cx="1828800" cy="380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1114560" y="6095880"/>
            <a:ext cx="1533240" cy="381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681440" y="31240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as a product of quo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5040" y="350532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each quo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4320" y="396252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the ex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681440" y="4419720"/>
            <a:ext cx="4321440" cy="752040"/>
            <a:chOff x="4681440" y="4419720"/>
            <a:chExt cx="4321440" cy="752040"/>
          </a:xfrm>
        </p:grpSpPr>
        <p:sp>
          <p:nvSpPr>
            <p:cNvPr id="173" name=""/>
            <p:cNvSpPr/>
            <p:nvPr/>
          </p:nvSpPr>
          <p:spPr>
            <a:xfrm>
              <a:off x="4681440" y="4419720"/>
              <a:ext cx="43214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Write 1.1 in scientific notation as 11 x 10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9"/>
            <a:stretch/>
          </p:blipFill>
          <p:spPr>
            <a:xfrm>
              <a:off x="6543720" y="4724280"/>
              <a:ext cx="285840" cy="38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"/>
          <p:cNvSpPr/>
          <p:nvPr/>
        </p:nvSpPr>
        <p:spPr>
          <a:xfrm>
            <a:off x="4681440" y="5105520"/>
            <a:ext cx="4245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second two terms have the same base, so add th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1440" y="609588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the ex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04920" y="1514520"/>
            <a:ext cx="8237520" cy="1922760"/>
            <a:chOff x="304920" y="1514520"/>
            <a:chExt cx="8237520" cy="1922760"/>
          </a:xfrm>
        </p:grpSpPr>
        <p:sp>
          <p:nvSpPr>
            <p:cNvPr id="179" name=""/>
            <p:cNvSpPr/>
            <p:nvPr/>
          </p:nvSpPr>
          <p:spPr>
            <a:xfrm>
              <a:off x="304920" y="1514520"/>
              <a:ext cx="8237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he Colorado Department of Education spent about                   dollars in fiscal year 2004-05 on public schools. There were about    students enrolled in public school. What was the average spending per student? Write your answer in standard for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1471680" y="1881360"/>
              <a:ext cx="18288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6686640" y="2276640"/>
              <a:ext cx="139068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822240" y="3816360"/>
            <a:ext cx="77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find the average spending per student, divide the total debt by the number of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914400" y="4791240"/>
            <a:ext cx="4267080" cy="847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914400" y="5629320"/>
            <a:ext cx="2019240" cy="838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127480" y="5645160"/>
            <a:ext cx="401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as a product of quo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4920" y="1495440"/>
            <a:ext cx="8237520" cy="1922760"/>
            <a:chOff x="304920" y="1495440"/>
            <a:chExt cx="8237520" cy="1922760"/>
          </a:xfrm>
        </p:grpSpPr>
        <p:sp>
          <p:nvSpPr>
            <p:cNvPr id="188" name=""/>
            <p:cNvSpPr/>
            <p:nvPr/>
          </p:nvSpPr>
          <p:spPr>
            <a:xfrm>
              <a:off x="304920" y="1495440"/>
              <a:ext cx="8237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he Colorado Department of Education spent about                   dollars in fiscal year 2004-05 on public schools. There were about    students enrolled in public school. What was the average spending per student? Write your answer in standard for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1471680" y="1862280"/>
              <a:ext cx="18288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6686640" y="2257560"/>
              <a:ext cx="139068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"/>
          <p:cNvSpPr/>
          <p:nvPr/>
        </p:nvSpPr>
        <p:spPr>
          <a:xfrm>
            <a:off x="822240" y="3797280"/>
            <a:ext cx="77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find the average spending per student, divide the total debt by the number of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923760" y="4695840"/>
            <a:ext cx="1838520" cy="380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905040" y="5153040"/>
            <a:ext cx="1542960" cy="380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938160" y="5667480"/>
            <a:ext cx="1143000" cy="323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123560" y="6004080"/>
            <a:ext cx="65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verage spending per student is $5,8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45360" y="46594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each quo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44640" y="515304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the ex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41760" y="561024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in standard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04920" y="1600200"/>
            <a:ext cx="8237520" cy="1557000"/>
            <a:chOff x="304920" y="1600200"/>
            <a:chExt cx="8237520" cy="1557000"/>
          </a:xfrm>
        </p:grpSpPr>
        <p:sp>
          <p:nvSpPr>
            <p:cNvPr id="201" name=""/>
            <p:cNvSpPr/>
            <p:nvPr/>
          </p:nvSpPr>
          <p:spPr>
            <a:xfrm>
              <a:off x="304920" y="1600200"/>
              <a:ext cx="8237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 1990, the United States public debt was about                 dollars. The population of the United States was about               people. What was the average debt per person? Write your answer in standard for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1495440" y="1981080"/>
              <a:ext cx="15620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4691160" y="2362320"/>
              <a:ext cx="139068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"/>
          <p:cNvSpPr/>
          <p:nvPr/>
        </p:nvSpPr>
        <p:spPr>
          <a:xfrm>
            <a:off x="974880" y="352116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find the average debt per person, divide the total debt by the number of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081080" y="4410000"/>
            <a:ext cx="4467240" cy="847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1057320" y="5334120"/>
            <a:ext cx="1762200" cy="838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127480" y="5410080"/>
            <a:ext cx="401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as a product of quo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457200" y="1600200"/>
            <a:ext cx="8237520" cy="1557000"/>
            <a:chOff x="457200" y="1600200"/>
            <a:chExt cx="8237520" cy="1557000"/>
          </a:xfrm>
        </p:grpSpPr>
        <p:sp>
          <p:nvSpPr>
            <p:cNvPr id="209" name=""/>
            <p:cNvSpPr/>
            <p:nvPr/>
          </p:nvSpPr>
          <p:spPr>
            <a:xfrm>
              <a:off x="457200" y="1600200"/>
              <a:ext cx="8237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 1990, the United States public debt was about                 dollars. The population of the United States was about               people. What was the average debt per person? Write your answer in standard for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1647720" y="1981080"/>
              <a:ext cx="15620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4843440" y="2362320"/>
              <a:ext cx="139068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"/>
          <p:cNvSpPr/>
          <p:nvPr/>
        </p:nvSpPr>
        <p:spPr>
          <a:xfrm>
            <a:off x="1127160" y="352116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find the average debt per person, divide the total debt by the number of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214280" y="4495680"/>
            <a:ext cx="2171880" cy="381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1224000" y="4952880"/>
            <a:ext cx="1724040" cy="381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238400" y="5562720"/>
            <a:ext cx="1333440" cy="323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07200" y="453564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each quo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8280" y="500076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the ex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05400" y="548640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in standard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39280" y="5894280"/>
            <a:ext cx="62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verage debt per person was $12,8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09480" y="94608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ower of a quotient can be found by first writing the numerator and denominator as p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4511520"/>
            <a:ext cx="832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ice that the exponents in the final answer are the same as the exponent in the original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6484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724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9000" y="2557440"/>
            <a:ext cx="4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29360" y="2604960"/>
            <a:ext cx="504720" cy="390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89000" y="317664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3057480"/>
            <a:ext cx="1542960" cy="695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809880"/>
            <a:ext cx="1114560" cy="466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93680" y="384336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267160" y="3705120"/>
            <a:ext cx="695520" cy="885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7880" y="511956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572000"/>
            <a:ext cx="80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in Scientific 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123920" y="5162400"/>
            <a:ext cx="1505160" cy="400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97880" y="565308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2305080" y="2619360"/>
            <a:ext cx="590400" cy="399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2629080" y="3062160"/>
            <a:ext cx="266400" cy="733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2590920" y="3833640"/>
            <a:ext cx="380880" cy="400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6058080" y="2209680"/>
            <a:ext cx="1028520" cy="771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7153200" y="3005280"/>
            <a:ext cx="466920" cy="847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6362640" y="3719520"/>
            <a:ext cx="419040" cy="847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2990880" y="5153040"/>
            <a:ext cx="1276200" cy="399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3"/>
          <a:stretch/>
        </p:blipFill>
        <p:spPr>
          <a:xfrm>
            <a:off x="3152880" y="5695920"/>
            <a:ext cx="1495440" cy="399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4"/>
          <a:stretch/>
        </p:blipFill>
        <p:spPr>
          <a:xfrm>
            <a:off x="1143000" y="5672160"/>
            <a:ext cx="1733400" cy="399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5"/>
          <a:stretch/>
        </p:blipFill>
        <p:spPr>
          <a:xfrm>
            <a:off x="1066680" y="3209760"/>
            <a:ext cx="11811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A: Finding Positive Powers of Quo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414440" y="2381400"/>
            <a:ext cx="762120" cy="8953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447920" y="3448080"/>
            <a:ext cx="1523880" cy="8953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2271600" y="4524480"/>
            <a:ext cx="733680" cy="733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365720" y="3444840"/>
            <a:ext cx="47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68240" y="46483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B: Finding Positive Powers of Quo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447920" y="2324160"/>
            <a:ext cx="1190520" cy="11048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590920" y="5410080"/>
            <a:ext cx="1085760" cy="8859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556160" y="3048120"/>
            <a:ext cx="45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Produc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556160" y="3809880"/>
            <a:ext cx="4587840" cy="1231920"/>
            <a:chOff x="4556160" y="3809880"/>
            <a:chExt cx="4587840" cy="1231920"/>
          </a:xfrm>
        </p:grpSpPr>
        <p:sp>
          <p:nvSpPr>
            <p:cNvPr id="238" name=""/>
            <p:cNvSpPr/>
            <p:nvPr/>
          </p:nvSpPr>
          <p:spPr>
            <a:xfrm>
              <a:off x="4556160" y="3809880"/>
              <a:ext cx="458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Use the Power  of a Product Propert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3"/>
            <a:stretch/>
          </p:blipFill>
          <p:spPr>
            <a:xfrm>
              <a:off x="6266160" y="4194000"/>
              <a:ext cx="249552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4"/>
            <a:stretch/>
          </p:blipFill>
          <p:spPr>
            <a:xfrm>
              <a:off x="5008680" y="4603680"/>
              <a:ext cx="2457360" cy="43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2590920" y="4495680"/>
            <a:ext cx="1419120" cy="8575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1447920" y="3429000"/>
            <a:ext cx="232416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4556160" y="5105520"/>
            <a:ext cx="4397400" cy="1199880"/>
            <a:chOff x="4556160" y="5105520"/>
            <a:chExt cx="4397400" cy="1199880"/>
          </a:xfrm>
        </p:grpSpPr>
        <p:grpSp>
          <p:nvGrpSpPr>
            <p:cNvPr id="244" name=""/>
            <p:cNvGrpSpPr/>
            <p:nvPr/>
          </p:nvGrpSpPr>
          <p:grpSpPr>
            <a:xfrm>
              <a:off x="4556160" y="5105520"/>
              <a:ext cx="4397400" cy="850680"/>
              <a:chOff x="4556160" y="5105520"/>
              <a:chExt cx="4397400" cy="850680"/>
            </a:xfrm>
          </p:grpSpPr>
          <p:sp>
            <p:nvSpPr>
              <p:cNvPr id="245" name=""/>
              <p:cNvSpPr/>
              <p:nvPr/>
            </p:nvSpPr>
            <p:spPr>
              <a:xfrm>
                <a:off x="4556160" y="5130720"/>
                <a:ext cx="439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7760" indent="-347760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33ff"/>
                    </a:solidFill>
                    <a:latin typeface="Arial"/>
                  </a:rPr>
                  <a:t>Simplify     and use the Power of a Power Property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761080" y="5105520"/>
                <a:ext cx="390600" cy="390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7" name="" descr=""/>
            <p:cNvPicPr/>
            <p:nvPr/>
          </p:nvPicPr>
          <p:blipFill>
            <a:blip r:embed="rId8"/>
            <a:stretch/>
          </p:blipFill>
          <p:spPr>
            <a:xfrm>
              <a:off x="4998960" y="5867280"/>
              <a:ext cx="249552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04920" y="14479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C: Finding Positive Powers of Quo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39960" y="1866960"/>
            <a:ext cx="1447560" cy="1181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939960" y="3076560"/>
            <a:ext cx="2971800" cy="11905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2349360" y="4343400"/>
            <a:ext cx="1486080" cy="9525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2373480" y="5372280"/>
            <a:ext cx="1542960" cy="952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556160" y="3216240"/>
            <a:ext cx="45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 of a Produc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556160" y="4105440"/>
            <a:ext cx="4587840" cy="1228680"/>
            <a:chOff x="4556160" y="4105440"/>
            <a:chExt cx="4587840" cy="1228680"/>
          </a:xfrm>
        </p:grpSpPr>
        <p:sp>
          <p:nvSpPr>
            <p:cNvPr id="256" name=""/>
            <p:cNvSpPr/>
            <p:nvPr/>
          </p:nvSpPr>
          <p:spPr>
            <a:xfrm>
              <a:off x="4556160" y="4105440"/>
              <a:ext cx="458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Use the Power  of a Product Propert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5"/>
            <a:stretch/>
          </p:blipFill>
          <p:spPr>
            <a:xfrm>
              <a:off x="6261120" y="4505760"/>
              <a:ext cx="25146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6"/>
            <a:stretch/>
          </p:blipFill>
          <p:spPr>
            <a:xfrm>
              <a:off x="5027760" y="4896000"/>
              <a:ext cx="346716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"/>
          <p:cNvGrpSpPr/>
          <p:nvPr/>
        </p:nvGrpSpPr>
        <p:grpSpPr>
          <a:xfrm>
            <a:off x="4556160" y="5273640"/>
            <a:ext cx="4435560" cy="1184400"/>
            <a:chOff x="4556160" y="5273640"/>
            <a:chExt cx="4435560" cy="1184400"/>
          </a:xfrm>
        </p:grpSpPr>
        <p:sp>
          <p:nvSpPr>
            <p:cNvPr id="260" name=""/>
            <p:cNvSpPr/>
            <p:nvPr/>
          </p:nvSpPr>
          <p:spPr>
            <a:xfrm>
              <a:off x="4556160" y="5273640"/>
              <a:ext cx="443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Use the Power of a Product Propert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7"/>
            <a:stretch/>
          </p:blipFill>
          <p:spPr>
            <a:xfrm>
              <a:off x="6308640" y="5648400"/>
              <a:ext cx="236232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8"/>
            <a:stretch/>
          </p:blipFill>
          <p:spPr>
            <a:xfrm>
              <a:off x="4956120" y="6019920"/>
              <a:ext cx="340992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04920" y="14479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C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95280" y="2305080"/>
            <a:ext cx="1905120" cy="95256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3886200" y="2457360"/>
            <a:ext cx="4587840" cy="1200240"/>
            <a:chOff x="3886200" y="2457360"/>
            <a:chExt cx="4587840" cy="1200240"/>
          </a:xfrm>
        </p:grpSpPr>
        <p:sp>
          <p:nvSpPr>
            <p:cNvPr id="267" name=""/>
            <p:cNvSpPr/>
            <p:nvPr/>
          </p:nvSpPr>
          <p:spPr>
            <a:xfrm>
              <a:off x="3886200" y="2457360"/>
              <a:ext cx="458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Use the Power  of a Product Propert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4290840" y="3219480"/>
              <a:ext cx="298152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3"/>
            <a:stretch/>
          </p:blipFill>
          <p:spPr>
            <a:xfrm>
              <a:off x="5643360" y="2838600"/>
              <a:ext cx="173376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00200" y="2247840"/>
            <a:ext cx="923760" cy="11048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628640" y="3390840"/>
            <a:ext cx="1876680" cy="11048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2590920" y="4676760"/>
            <a:ext cx="1571400" cy="8859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975200" y="3429000"/>
            <a:ext cx="416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75200" y="4876920"/>
            <a:ext cx="40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12952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1352520" cy="11052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143000" y="2828880"/>
            <a:ext cx="2743200" cy="1447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2438280" y="4305240"/>
            <a:ext cx="2028960" cy="9525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2433600" y="5410080"/>
            <a:ext cx="1343160" cy="8859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4648320" y="4324320"/>
            <a:ext cx="4086000" cy="10098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6"/>
          <a:stretch/>
        </p:blipFill>
        <p:spPr>
          <a:xfrm>
            <a:off x="4648320" y="5543640"/>
            <a:ext cx="4086000" cy="10094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7"/>
          <a:stretch/>
        </p:blipFill>
        <p:spPr>
          <a:xfrm>
            <a:off x="4648320" y="3119400"/>
            <a:ext cx="40860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12952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1276200" cy="9622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610160" y="2819520"/>
            <a:ext cx="4086000" cy="6188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990720" y="2695680"/>
            <a:ext cx="2609640" cy="12189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2286000" y="3924360"/>
            <a:ext cx="1409760" cy="799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2286000" y="4838760"/>
            <a:ext cx="971640" cy="799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2286000" y="5715000"/>
            <a:ext cx="666720" cy="8002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7"/>
          <a:stretch/>
        </p:blipFill>
        <p:spPr>
          <a:xfrm>
            <a:off x="4610160" y="3733920"/>
            <a:ext cx="4305240" cy="10094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8"/>
          <a:stretch/>
        </p:blipFill>
        <p:spPr>
          <a:xfrm>
            <a:off x="4610160" y="4876920"/>
            <a:ext cx="4038480" cy="10094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9"/>
          <a:stretch/>
        </p:blipFill>
        <p:spPr>
          <a:xfrm>
            <a:off x="4610160" y="6019920"/>
            <a:ext cx="125712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3286080" cy="13143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2743200" y="2538360"/>
            <a:ext cx="1123920" cy="8002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2743200" y="3352680"/>
            <a:ext cx="1085760" cy="8002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2757600" y="4076640"/>
            <a:ext cx="657000" cy="8002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5"/>
          <a:stretch/>
        </p:blipFill>
        <p:spPr>
          <a:xfrm>
            <a:off x="2766960" y="4862520"/>
            <a:ext cx="924120" cy="85716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152280" y="5638680"/>
            <a:ext cx="3543480" cy="857520"/>
            <a:chOff x="152280" y="5638680"/>
            <a:chExt cx="3543480" cy="857520"/>
          </a:xfrm>
        </p:grpSpPr>
        <p:pic>
          <p:nvPicPr>
            <p:cNvPr id="303" name="" descr=""/>
            <p:cNvPicPr/>
            <p:nvPr/>
          </p:nvPicPr>
          <p:blipFill>
            <a:blip r:embed="rId6"/>
            <a:stretch/>
          </p:blipFill>
          <p:spPr>
            <a:xfrm>
              <a:off x="1905120" y="5638680"/>
              <a:ext cx="1790640" cy="8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152280" y="585324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refor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4648320" y="2057400"/>
            <a:ext cx="44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fraction as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48320" y="2590920"/>
            <a:ext cx="43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48320" y="3581280"/>
            <a:ext cx="44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by the recipro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48320" y="4267080"/>
            <a:ext cx="21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48320" y="4892760"/>
            <a:ext cx="43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784080" y="914400"/>
            <a:ext cx="8359920" cy="810000"/>
            <a:chOff x="784080" y="914400"/>
            <a:chExt cx="8359920" cy="810000"/>
          </a:xfrm>
        </p:grpSpPr>
        <p:grpSp>
          <p:nvGrpSpPr>
            <p:cNvPr id="311" name=""/>
            <p:cNvGrpSpPr/>
            <p:nvPr/>
          </p:nvGrpSpPr>
          <p:grpSpPr>
            <a:xfrm>
              <a:off x="784080" y="914400"/>
              <a:ext cx="8359920" cy="723600"/>
              <a:chOff x="784080" y="914400"/>
              <a:chExt cx="8359920" cy="723600"/>
            </a:xfrm>
          </p:grpSpPr>
          <p:sp>
            <p:nvSpPr>
              <p:cNvPr id="312" name=""/>
              <p:cNvSpPr/>
              <p:nvPr/>
            </p:nvSpPr>
            <p:spPr>
              <a:xfrm>
                <a:off x="784080" y="996840"/>
                <a:ext cx="835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Remember that               What i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is a fraction?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62400" y="914400"/>
                <a:ext cx="1390680" cy="723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4" name=""/>
            <p:cNvSpPr/>
            <p:nvPr/>
          </p:nvSpPr>
          <p:spPr>
            <a:xfrm>
              <a:off x="4572000" y="1143000"/>
              <a:ext cx="30492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8176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A: Finding Negative Powers of Quo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338560" y="4305240"/>
            <a:ext cx="647640" cy="8002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523880" y="3181320"/>
            <a:ext cx="1762200" cy="8571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1523880" y="2286000"/>
            <a:ext cx="838440" cy="8478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2362320" y="5324400"/>
            <a:ext cx="685800" cy="6955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179960" y="3276720"/>
            <a:ext cx="46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Rewrite with a positive ex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267080" y="5486400"/>
            <a:ext cx="3162240" cy="459720"/>
            <a:chOff x="4267080" y="5486400"/>
            <a:chExt cx="3162240" cy="459720"/>
          </a:xfrm>
        </p:grpSpPr>
        <p:pic>
          <p:nvPicPr>
            <p:cNvPr id="324" name="" descr=""/>
            <p:cNvPicPr/>
            <p:nvPr/>
          </p:nvPicPr>
          <p:blipFill>
            <a:blip r:embed="rId5"/>
            <a:stretch/>
          </p:blipFill>
          <p:spPr>
            <a:xfrm>
              <a:off x="4267080" y="5500440"/>
              <a:ext cx="3162240" cy="4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423400" y="548640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175280" y="4191120"/>
            <a:ext cx="45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s of a Quotient Property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905120"/>
            <a:ext cx="8458200" cy="12189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division properties of exponents to evaluate and simplify express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0492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B: Finding Negative Powers of Quo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1218960" cy="961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143000" y="2514600"/>
            <a:ext cx="2448000" cy="9619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2362320" y="359100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2362320" y="4857840"/>
            <a:ext cx="1190520" cy="7808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2362320" y="5772240"/>
            <a:ext cx="857160" cy="780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6"/>
          <a:stretch/>
        </p:blipFill>
        <p:spPr>
          <a:xfrm>
            <a:off x="4248000" y="2619360"/>
            <a:ext cx="4743720" cy="3240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7"/>
          <a:stretch/>
        </p:blipFill>
        <p:spPr>
          <a:xfrm>
            <a:off x="4248000" y="3581280"/>
            <a:ext cx="4096080" cy="6192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8"/>
          <a:stretch/>
        </p:blipFill>
        <p:spPr>
          <a:xfrm>
            <a:off x="4248000" y="4896000"/>
            <a:ext cx="4019760" cy="666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9"/>
          <a:stretch/>
        </p:blipFill>
        <p:spPr>
          <a:xfrm>
            <a:off x="4248000" y="5867280"/>
            <a:ext cx="37436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C: Finding Negative Powers of Quo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533520" y="2314440"/>
            <a:ext cx="2133360" cy="8859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800600" y="31399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Rewrite each fraction with a positive ex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590400" y="3152880"/>
            <a:ext cx="4019760" cy="8856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2671920" y="4067280"/>
            <a:ext cx="1904760" cy="10382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4800600" y="4054320"/>
            <a:ext cx="413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2666880" y="5181480"/>
            <a:ext cx="1600200" cy="8384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4800600" y="4876920"/>
            <a:ext cx="413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Product Proper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(3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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(2n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= 3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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2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n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nd (2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 </a:t>
            </a:r>
            <a:r>
              <a:rPr b="0" i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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(6m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3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= 2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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6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1600200" cy="838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819520" y="3152880"/>
            <a:ext cx="1733400" cy="80964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2759400" y="4038480"/>
            <a:ext cx="1830600" cy="1602000"/>
            <a:chOff x="2759400" y="4038480"/>
            <a:chExt cx="1830600" cy="1602000"/>
          </a:xfrm>
        </p:grpSpPr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2811240" y="4395960"/>
              <a:ext cx="173340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 flipH="1">
              <a:off x="2992320" y="4495680"/>
              <a:ext cx="30456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35360" y="4281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51280" y="5148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020760" y="4890960"/>
              <a:ext cx="30456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59400" y="4967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678120" y="4495680"/>
              <a:ext cx="30456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32200" y="4191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79920" y="4038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630240" y="4924440"/>
              <a:ext cx="38052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906720" y="5181480"/>
              <a:ext cx="304560" cy="2286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56200" y="5272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3830400" y="4224240"/>
              <a:ext cx="304560" cy="2286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699160" y="4359240"/>
            <a:ext cx="336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vide out common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2819520" y="55148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C: Finding Negative Powers of Quo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701680" y="57913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00960" y="327672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quare and cube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374760" y="1938240"/>
            <a:ext cx="7854840" cy="1254240"/>
            <a:chOff x="374760" y="1938240"/>
            <a:chExt cx="7854840" cy="1254240"/>
          </a:xfrm>
        </p:grpSpPr>
        <p:sp>
          <p:nvSpPr>
            <p:cNvPr id="370" name=""/>
            <p:cNvSpPr/>
            <p:nvPr/>
          </p:nvSpPr>
          <p:spPr>
            <a:xfrm>
              <a:off x="380880" y="2367000"/>
              <a:ext cx="784872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henever all of the factors in the numerator or the denominator divide out, replace them with 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4760" y="193824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219320" y="2247840"/>
            <a:ext cx="1009440" cy="8762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314360" y="3191040"/>
            <a:ext cx="2038320" cy="10000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2343240" y="4362480"/>
            <a:ext cx="857160" cy="9716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2347920" y="5438880"/>
            <a:ext cx="1600200" cy="8096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5060880" y="548640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9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Verdana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=729 and 4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Verdana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= 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13360" y="4307040"/>
            <a:ext cx="413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013360" y="3216240"/>
            <a:ext cx="405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Rewrite with a positive ex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33520" y="2247840"/>
            <a:ext cx="1409760" cy="8762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533520" y="3162240"/>
            <a:ext cx="2752560" cy="10288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1909800" y="4172040"/>
            <a:ext cx="1352520" cy="11620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1905120" y="5353200"/>
            <a:ext cx="2266920" cy="819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800600" y="304812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Rewrite with a positive ex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00600" y="52135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Power Property: (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= 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•4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3•4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= 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8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12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nd (2a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= 2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= 16a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00600" y="4206960"/>
            <a:ext cx="42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12952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85800" y="1790640"/>
            <a:ext cx="2133720" cy="10288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852480" y="2743200"/>
            <a:ext cx="3933720" cy="10288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5105520" y="2895480"/>
            <a:ext cx="39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Rewrite each fraction with a positive ex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2895480" y="4819680"/>
            <a:ext cx="1266840" cy="743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105520" y="3825720"/>
            <a:ext cx="382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2857680" y="3724200"/>
            <a:ext cx="1485720" cy="10000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105520" y="47242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Product Property: (3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=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2895480" y="5638680"/>
            <a:ext cx="6035760" cy="874800"/>
            <a:chOff x="2895480" y="5638680"/>
            <a:chExt cx="6035760" cy="874800"/>
          </a:xfrm>
        </p:grpSpPr>
        <p:sp>
          <p:nvSpPr>
            <p:cNvPr id="400" name=""/>
            <p:cNvSpPr/>
            <p:nvPr/>
          </p:nvSpPr>
          <p:spPr>
            <a:xfrm>
              <a:off x="5105520" y="5638680"/>
              <a:ext cx="382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Add exponents and divide out common term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895480" y="5751360"/>
              <a:ext cx="1838160" cy="762120"/>
              <a:chOff x="2895480" y="5751360"/>
              <a:chExt cx="1838160" cy="762120"/>
            </a:xfrm>
          </p:grpSpPr>
          <p:pic>
            <p:nvPicPr>
              <p:cNvPr id="40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895480" y="5770440"/>
                <a:ext cx="1838160" cy="7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flipH="1">
                <a:off x="3433320" y="5751360"/>
                <a:ext cx="152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3176280" y="6208560"/>
                <a:ext cx="15264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1128600"/>
            <a:ext cx="7620120" cy="44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400320" cy="8190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4648320" y="2095560"/>
            <a:ext cx="819000" cy="9525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4114800" y="22860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98680" y="167652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990720" y="4152960"/>
            <a:ext cx="1838160" cy="10285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1790640" y="230508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2362320" y="3352680"/>
            <a:ext cx="533160" cy="4287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4643280" y="3200400"/>
            <a:ext cx="1076400" cy="8762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7"/>
          <a:stretch/>
        </p:blipFill>
        <p:spPr>
          <a:xfrm>
            <a:off x="6095880" y="3209760"/>
            <a:ext cx="847800" cy="8193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8"/>
          <a:stretch/>
        </p:blipFill>
        <p:spPr>
          <a:xfrm>
            <a:off x="2962440" y="4362480"/>
            <a:ext cx="771480" cy="7430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9"/>
          <a:stretch/>
        </p:blipFill>
        <p:spPr>
          <a:xfrm>
            <a:off x="5791320" y="2104920"/>
            <a:ext cx="428400" cy="8384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10"/>
          <a:stretch/>
        </p:blipFill>
        <p:spPr>
          <a:xfrm>
            <a:off x="990720" y="3124080"/>
            <a:ext cx="1143000" cy="8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98680" y="167652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84080" y="2506680"/>
            <a:ext cx="80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ify (3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÷ (5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nd write the answer in scientific n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41880" y="28954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60400" y="3581280"/>
            <a:ext cx="790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public of Botswana has an area of 6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quare kilometers. Its population is about 1.62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What is the population density of Botswana? Write your answer in standard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580120" y="507672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.7 people/k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1219320"/>
            <a:ext cx="813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uotient of powers with the same base can be found by writing the powers in a factored form and dividing out common 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4646520"/>
            <a:ext cx="816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ice the relationship between the exponents in the original quotient and the exponent in the final answer: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5 – 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6514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7817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Finding Quotients of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6200" y="288612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19320" y="2685960"/>
            <a:ext cx="438120" cy="847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19320" y="3800520"/>
            <a:ext cx="1419120" cy="847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04960" y="4714920"/>
            <a:ext cx="1419120" cy="39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271840" y="2886120"/>
            <a:ext cx="5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5829480" y="2657520"/>
            <a:ext cx="495000" cy="847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872320" y="3800520"/>
            <a:ext cx="1504800" cy="84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400800" y="4648320"/>
            <a:ext cx="1276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06560" y="243828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07520" y="26226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Finding Quotients of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30320" y="3429000"/>
            <a:ext cx="1942920" cy="914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920960" y="4410000"/>
            <a:ext cx="1866960" cy="390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920960" y="4943520"/>
            <a:ext cx="1200240" cy="390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906560" y="5477040"/>
            <a:ext cx="847800" cy="390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4610160" y="2514600"/>
            <a:ext cx="163836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31560" y="2624040"/>
            <a:ext cx="4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4591080" y="3581280"/>
            <a:ext cx="417204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6186600" y="4467240"/>
            <a:ext cx="1981080" cy="438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6186600" y="4896000"/>
            <a:ext cx="1009440" cy="857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6205680" y="5772240"/>
            <a:ext cx="10094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74760" y="1828800"/>
            <a:ext cx="7854840" cy="1478160"/>
            <a:chOff x="374760" y="1828800"/>
            <a:chExt cx="7854840" cy="1478160"/>
          </a:xfrm>
        </p:grpSpPr>
        <p:sp>
          <p:nvSpPr>
            <p:cNvPr id="106" name=""/>
            <p:cNvSpPr/>
            <p:nvPr/>
          </p:nvSpPr>
          <p:spPr>
            <a:xfrm>
              <a:off x="380880" y="2291040"/>
              <a:ext cx="7848720" cy="101592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Both    and 729 are considered to be simplifi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4760" y="182880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0040" y="2362320"/>
            <a:ext cx="1333440" cy="390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52440" y="2867040"/>
            <a:ext cx="3524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438120" cy="847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85840" y="3343320"/>
            <a:ext cx="1419120" cy="847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657440" y="4267080"/>
            <a:ext cx="1238040" cy="381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000840" y="3276720"/>
            <a:ext cx="1466640" cy="914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6000840" y="236232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1008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519960" y="3962520"/>
            <a:ext cx="1609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5-12T16:23:15Z</dcterms:modified>
  <cp:revision>53</cp:revision>
  <dc:subject/>
  <dc:title>Slide 1</dc:title>
</cp:coreProperties>
</file>